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D9A25-AF45-47C5-8775-A027A9B80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5A28B-3272-4138-8024-BCE31AA64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61409-BD2D-43C6-A8AE-4E7270B08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C5C8B-48B4-477B-BCBB-52AF131E6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C6524-D2FB-4F79-87AC-806C92761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F715E-D2B3-4DAD-951B-FC0692534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12411-5C2F-4ED9-A31A-F1DBD9E12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BA1F8-8342-45D5-A90C-E2DE67C81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E95CC-0E25-4DB1-80BC-A65E849B3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94A01-F915-4EA4-9E12-E7806182F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76518-6AD8-4162-994B-F5DF1D1F7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BBC36-51BA-4FC7-8EFF-42CA12CAC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21CFA-754B-4474-856F-C4158465B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6C682-DD3A-4DF5-8AAF-A9ADA9A2A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D6318-BAAA-4387-8104-6872F1883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889F2-7E57-44CA-BD02-BB5A84556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3B2F0F-0CD2-40BF-B9CB-6450AB7A3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5C077-79DE-458C-B6DD-C711401DA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861C2-7BC1-445F-98A0-91B3F475A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33A75-9C3D-4D15-A5CB-4E68075F3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C61E6-7C05-4811-809C-5B35604B7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6D128-BF4B-4FBB-A397-8BC366338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80D29-7A19-4EB2-86F3-6A3C0DC8A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6F76E-0F27-4B29-A734-5C754D97C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D14B-1C21-4C69-9C47-2DFDC2C412E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A048-CE53-4E1A-A728-AAD9BC5FFB3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Firearms Identification</a:t>
            </a:r>
            <a:br>
              <a:rPr sz="4800"/>
            </a:b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BI Database:</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tabase used by firearm examiners all over the world is compiled and maintained by the FBI.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BI has been recording rifling data from firearms for over 20 year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new firearms are manufactured, the rifling data is included in the databa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se Study</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years ago, a double murder occurred in our community. An elderly couple was found shot to death in their home by their son.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appeared from the scene that there had been a break-in but the son was immediately a suspect. Investigators had a feeling that the son may have committed the crime but could not determine if he had owned or had access to a firearm.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llets from the scene were examined and it was determined that they were of 38 caliber and were fired from an 8/right rifled barre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se Study</a:t>
            </a:r>
            <a:endParaRPr b="0" lang="en-US" sz="4400" spc="-1" strike="noStrike">
              <a:solidFill>
                <a:srgbClr val="b2b2b2"/>
              </a:solidFill>
              <a:latin typeface="Arial"/>
            </a:endParaRPr>
          </a:p>
        </p:txBody>
      </p:sp>
      <p:sp>
        <p:nvSpPr>
          <p:cNvPr id="12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ist of manufacturers was compiled and given to the investigators.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is list, the investigators searched a weekly "Bargain Mart" classified ad publication. By calling the ads for firearms included on the list of possibilities, the investigators found one individual who said he had sold his revolver to an individual who matched the description of the son.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n was then picked out of a police line-up by the individual who had sold him the gun. When confronted with the evidence the son confessed to the killing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orensic firearms examinations</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cation of a bullet, cartridge case, or other ammunition component as having been fired by or in a particular firearm.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ssibility for such singular identification can be attributed to specific machining processes used in the manufacture of firea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Rifling</a:t>
            </a:r>
            <a:br>
              <a:rPr sz="4000"/>
            </a:br>
            <a:endParaRPr b="0" lang="en-US" sz="4000" spc="-1" strike="noStrike">
              <a:solidFill>
                <a:srgbClr val="b2b2b2"/>
              </a:solidFill>
              <a:latin typeface="Arial"/>
            </a:endParaRPr>
          </a:p>
        </p:txBody>
      </p:sp>
      <p:sp>
        <p:nvSpPr>
          <p:cNvPr id="103"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ical grooves (rifling), cut into the bore of a barrel of a firearm during production, increase the accuracy of that firear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zed</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s on the bullet (lands and grooves)</a:t>
            </a:r>
            <a:endParaRPr b="0" lang="en-US" sz="2800" spc="-1" strike="noStrike">
              <a:solidFill>
                <a:srgbClr val="ffffff"/>
              </a:solidFill>
              <a:latin typeface="Arial"/>
            </a:endParaRPr>
          </a:p>
        </p:txBody>
      </p:sp>
      <p:pic>
        <p:nvPicPr>
          <p:cNvPr id="104" name="gunbarl" descr="a rifled barrel"/>
          <p:cNvPicPr/>
          <p:nvPr/>
        </p:nvPicPr>
        <p:blipFill>
          <a:blip r:embed="rId1"/>
          <a:stretch/>
        </p:blipFill>
        <p:spPr>
          <a:xfrm>
            <a:off x="2895480" y="4952880"/>
            <a:ext cx="3737160" cy="163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rifled barrel:</a:t>
            </a:r>
            <a:endParaRPr b="0" lang="en-US" sz="4400" spc="-1" strike="noStrike">
              <a:solidFill>
                <a:srgbClr val="b2b2b2"/>
              </a:solidFill>
              <a:latin typeface="Arial"/>
            </a:endParaRPr>
          </a:p>
        </p:txBody>
      </p:sp>
      <p:sp>
        <p:nvSpPr>
          <p:cNvPr id="10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contain scratches, scrapes, and other minute nicks and flaws </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cerbated through the subsequent use and discharge of the firearm </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s a result of natural wearing processes such as rusting and corrosion </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let will have unique microscopic markings as a result</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7" name="" descr=""/>
          <p:cNvPicPr/>
          <p:nvPr/>
        </p:nvPicPr>
        <p:blipFill>
          <a:blip r:embed="rId1"/>
          <a:stretch/>
        </p:blipFill>
        <p:spPr>
          <a:xfrm>
            <a:off x="7315200" y="4876920"/>
            <a:ext cx="1409760" cy="16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ring pin impressions:</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discharge of a firearm, the firing pin strikes the primer of a cartridge, creating microscopic contact marks and unique indentations. </a:t>
            </a:r>
            <a:endParaRPr b="0" lang="en-US" sz="3200" spc="-1" strike="noStrike">
              <a:solidFill>
                <a:srgbClr val="ffffff"/>
              </a:solidFill>
              <a:latin typeface="Arial"/>
            </a:endParaRPr>
          </a:p>
        </p:txBody>
      </p:sp>
      <p:pic>
        <p:nvPicPr>
          <p:cNvPr id="110" name="" descr="firing pin impression, centerfire"/>
          <p:cNvPicPr/>
          <p:nvPr/>
        </p:nvPicPr>
        <p:blipFill>
          <a:blip r:embed="rId1"/>
          <a:stretch/>
        </p:blipFill>
        <p:spPr>
          <a:xfrm>
            <a:off x="3886200" y="4419720"/>
            <a:ext cx="1752480" cy="1730160"/>
          </a:xfrm>
          <a:prstGeom prst="rect">
            <a:avLst/>
          </a:prstGeom>
          <a:ln w="0">
            <a:noFill/>
          </a:ln>
        </p:spPr>
      </p:pic>
      <p:pic>
        <p:nvPicPr>
          <p:cNvPr id="111" name="" descr="firing pin impression, rimfire"/>
          <p:cNvPicPr/>
          <p:nvPr/>
        </p:nvPicPr>
        <p:blipFill>
          <a:blip r:embed="rId2"/>
          <a:stretch/>
        </p:blipFill>
        <p:spPr>
          <a:xfrm>
            <a:off x="6400800" y="4419720"/>
            <a:ext cx="1676520" cy="167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reechface impressions:</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powder within the cartridge begins burning, the cartridge case is propelled backwards against the breechface with enough force to be impressed with the characteristic microscopic features of that surf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4" name="" descr="breechface marks"/>
          <p:cNvPicPr/>
          <p:nvPr/>
        </p:nvPicPr>
        <p:blipFill>
          <a:blip r:embed="rId1"/>
          <a:stretch/>
        </p:blipFill>
        <p:spPr>
          <a:xfrm>
            <a:off x="5791320" y="4419720"/>
            <a:ext cx="1904760" cy="186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en no firearm is recovered:</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fling parameters taken from the recovered bullets can be used to determine the possible manufacturers of the firearm from which the bullets were fired.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General rifling characteristics</a:t>
            </a:r>
            <a:r>
              <a:rPr b="0" lang="en-US" sz="2800" spc="-1" strike="noStrike">
                <a:solidFill>
                  <a:srgbClr val="ffffff"/>
                </a:solidFill>
                <a:latin typeface="Arial"/>
              </a:rPr>
              <a:t> or </a:t>
            </a:r>
            <a:r>
              <a:rPr b="1" i="1" lang="en-US" sz="2800" spc="-1" strike="noStrike">
                <a:solidFill>
                  <a:srgbClr val="ffffff"/>
                </a:solidFill>
                <a:latin typeface="Arial"/>
              </a:rPr>
              <a:t>GRC</a:t>
            </a:r>
            <a:r>
              <a:rPr b="0" lang="en-US" sz="2800" spc="-1" strike="noStrike">
                <a:solidFill>
                  <a:srgbClr val="ffffff"/>
                </a:solidFill>
                <a:latin typeface="Arial"/>
              </a:rPr>
              <a:t> are the identified rifling pattern (i.e. 8/right) and the diameters of the individual lands and grooves.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se parameters, firearm examiners can search through a database of known rifling dat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typical GRC search:</a:t>
            </a:r>
            <a:endParaRPr b="0" lang="en-US" sz="4400" spc="-1" strike="noStrike">
              <a:solidFill>
                <a:srgbClr val="b2b2b2"/>
              </a:solidFill>
              <a:latin typeface="Arial"/>
            </a:endParaRPr>
          </a:p>
        </p:txBody>
      </p:sp>
      <p:sp>
        <p:nvSpPr>
          <p:cNvPr id="118"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9mm LUGER bullet, fired from a 6/right rifled barrel, with a land width of .055 and a groove width of .125. </a:t>
            </a:r>
            <a:endParaRPr b="0" lang="en-US" sz="3200" spc="-1" strike="noStrike">
              <a:solidFill>
                <a:srgbClr val="ffffff"/>
              </a:solidFill>
              <a:latin typeface="Arial"/>
            </a:endParaRPr>
          </a:p>
        </p:txBody>
      </p:sp>
      <p:pic>
        <p:nvPicPr>
          <p:cNvPr id="119" name="" descr=""/>
          <p:cNvPicPr/>
          <p:nvPr/>
        </p:nvPicPr>
        <p:blipFill>
          <a:blip r:embed="rId1"/>
          <a:stretch/>
        </p:blipFill>
        <p:spPr>
          <a:xfrm>
            <a:off x="2666880" y="3505320"/>
            <a:ext cx="373392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sults of Search:</a:t>
            </a:r>
            <a:endParaRPr b="0" lang="en-US" sz="4400" spc="-1" strike="noStrike">
              <a:solidFill>
                <a:srgbClr val="b2b2b2"/>
              </a:solidFill>
              <a:latin typeface="Arial"/>
            </a:endParaRPr>
          </a:p>
        </p:txBody>
      </p:sp>
      <p:graphicFrame>
        <p:nvGraphicFramePr>
          <p:cNvPr id="121" name=""/>
          <p:cNvGraphicFramePr/>
          <p:nvPr/>
        </p:nvGraphicFramePr>
        <p:xfrm>
          <a:off x="457200" y="1600200"/>
          <a:ext cx="8229600" cy="4537080"/>
        </p:xfrm>
        <a:graphic>
          <a:graphicData uri="http://schemas.openxmlformats.org/drawingml/2006/table">
            <a:tbl>
              <a:tblPr/>
              <a:tblGrid>
                <a:gridCol w="1868400"/>
                <a:gridCol w="2833920"/>
                <a:gridCol w="950760"/>
                <a:gridCol w="739800"/>
                <a:gridCol w="919080"/>
                <a:gridCol w="917640"/>
              </a:tblGrid>
              <a:tr h="6426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ARTRIDGE</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ANUFACTURER</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WIST</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amp;G</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AND</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GROOVE</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9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A ARMS INC</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8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STR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ERET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8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I-POINT FIREARM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RDYNAMIC</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9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LAM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0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US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9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MITH &amp; WESS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A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WD INC</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17:27:09Z</dcterms:created>
  <dc:creator>Administrator</dc:creator>
  <dc:description/>
  <dc:language>en-US</dc:language>
  <cp:lastModifiedBy>Administrator</cp:lastModifiedBy>
  <dcterms:modified xsi:type="dcterms:W3CDTF">2010-01-04T17:37:01Z</dcterms:modified>
  <cp:revision>2</cp:revision>
  <dc:subject/>
  <dc:title>Firearms Identification </dc:title>
</cp:coreProperties>
</file>